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9DEB-B6C0-4EDC-9ECC-DA5715CF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66F0-F5AF-40C4-8284-95CCAF36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095E-494B-4B7E-9D85-3044B8646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01BF-81EA-4E31-900F-A80CACE76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30E3-E9A5-43A7-9DE6-4B6F478F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3D5E-C493-4305-92D3-9955F63E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69E2-824C-4F59-BA57-A8A2DEA3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4441-7A82-4410-891C-26B42893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20E9-E36E-446C-A182-A5CBB312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D276-D6C2-424F-A878-F4674D27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B99D-2F26-44AA-8A74-F6F0976E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AC2C-CECA-49F7-8804-AC6C4601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F3F0-2D29-4F13-9832-5C02AB614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04920"/>
            <a:ext cx="60199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doni MT Black"/>
              </a:rPr>
              <a:t>ANSWER SHEET IMSO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838080"/>
            <a:ext cx="5978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NTR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447920"/>
            <a:ext cx="6224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-304920" y="1690560"/>
            <a:ext cx="7486920" cy="7833960"/>
            <a:chOff x="-304920" y="1690560"/>
            <a:chExt cx="7486920" cy="7833960"/>
          </a:xfrm>
        </p:grpSpPr>
        <p:grpSp>
          <p:nvGrpSpPr>
            <p:cNvPr id="45" name=""/>
            <p:cNvGrpSpPr/>
            <p:nvPr/>
          </p:nvGrpSpPr>
          <p:grpSpPr>
            <a:xfrm>
              <a:off x="-304920" y="1690560"/>
              <a:ext cx="7486920" cy="7833960"/>
              <a:chOff x="-304920" y="1690560"/>
              <a:chExt cx="7486920" cy="7833960"/>
            </a:xfrm>
          </p:grpSpPr>
          <p:sp>
            <p:nvSpPr>
              <p:cNvPr id="46" name=""/>
              <p:cNvSpPr/>
              <p:nvPr/>
            </p:nvSpPr>
            <p:spPr>
              <a:xfrm>
                <a:off x="171360" y="1690560"/>
                <a:ext cx="6176880" cy="36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3240" y="1690560"/>
                <a:ext cx="1949400" cy="553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16400" y="1690560"/>
                <a:ext cx="1951200" cy="553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33360" y="1770120"/>
                <a:ext cx="65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New Century Schoolbook"/>
                  </a:rPr>
                  <a:t>1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665520" y="1770120"/>
                <a:ext cx="65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New Century Schoolbook"/>
                  </a:rPr>
                  <a:t>14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71360" y="2282040"/>
                <a:ext cx="6176880" cy="36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3240" y="2282040"/>
                <a:ext cx="1949400" cy="553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316400" y="2282040"/>
                <a:ext cx="1951200" cy="553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33360" y="2361600"/>
                <a:ext cx="65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New Century Schoolbook"/>
                  </a:rPr>
                  <a:t>2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665520" y="2361600"/>
                <a:ext cx="65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New Century Schoolbook"/>
                  </a:rPr>
                  <a:t>15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360" y="2890440"/>
                <a:ext cx="617688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3240" y="2890440"/>
                <a:ext cx="1949400" cy="55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316400" y="2890440"/>
                <a:ext cx="1951200" cy="55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33360" y="2970000"/>
                <a:ext cx="65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New Century Schoolbook"/>
                  </a:rPr>
                  <a:t>3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665520" y="2970000"/>
                <a:ext cx="65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New Century Schoolbook"/>
                  </a:rPr>
                  <a:t>16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360" y="3498480"/>
                <a:ext cx="617688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3240" y="3498480"/>
                <a:ext cx="1949400" cy="55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316400" y="3498480"/>
                <a:ext cx="1951200" cy="55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33360" y="3579840"/>
                <a:ext cx="65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New Century Schoolbook"/>
                  </a:rPr>
                  <a:t>4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665520" y="3579840"/>
                <a:ext cx="65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New Century Schoolbook"/>
                  </a:rPr>
                  <a:t>17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71360" y="4106160"/>
                <a:ext cx="6176880" cy="36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3240" y="4106160"/>
                <a:ext cx="1949400" cy="551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316400" y="4106160"/>
                <a:ext cx="1951200" cy="551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33360" y="4184280"/>
                <a:ext cx="65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New Century Schoolbook"/>
                  </a:rPr>
                  <a:t>5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665520" y="4184280"/>
                <a:ext cx="65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New Century Schoolbook"/>
                  </a:rPr>
                  <a:t>18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1360" y="4714560"/>
                <a:ext cx="617688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3240" y="4714560"/>
                <a:ext cx="1949400" cy="551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316400" y="4714560"/>
                <a:ext cx="1951200" cy="551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33360" y="4790520"/>
                <a:ext cx="65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New Century Schoolbook"/>
                  </a:rPr>
                  <a:t>6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665520" y="4790520"/>
                <a:ext cx="65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New Century Schoolbook"/>
                  </a:rPr>
                  <a:t>19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71360" y="5322600"/>
                <a:ext cx="617688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3240" y="5322600"/>
                <a:ext cx="1949400" cy="551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316400" y="5322600"/>
                <a:ext cx="1951200" cy="551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33360" y="5400360"/>
                <a:ext cx="65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New Century Schoolbook"/>
                  </a:rPr>
                  <a:t>7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65520" y="5400360"/>
                <a:ext cx="65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New Century Schoolbook"/>
                  </a:rPr>
                  <a:t>20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71360" y="5898240"/>
                <a:ext cx="61768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3240" y="5898240"/>
                <a:ext cx="1949400" cy="55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316400" y="5898240"/>
                <a:ext cx="1951200" cy="55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33360" y="5977800"/>
                <a:ext cx="65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New Century Schoolbook"/>
                  </a:rPr>
                  <a:t>8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665520" y="5977800"/>
                <a:ext cx="65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New Century Schoolbook"/>
                  </a:rPr>
                  <a:t>21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71360" y="6538680"/>
                <a:ext cx="617688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903240" y="6538680"/>
                <a:ext cx="1949400" cy="55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316400" y="6538680"/>
                <a:ext cx="1951200" cy="55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33360" y="6616800"/>
                <a:ext cx="65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New Century Schoolbook"/>
                  </a:rPr>
                  <a:t>9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665520" y="6616800"/>
                <a:ext cx="65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New Century Schoolbook"/>
                  </a:rPr>
                  <a:t>22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71360" y="7148520"/>
                <a:ext cx="61768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903240" y="7146720"/>
                <a:ext cx="1949400" cy="55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316400" y="7146720"/>
                <a:ext cx="1951200" cy="55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33360" y="7226640"/>
                <a:ext cx="65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New Century Schoolbook"/>
                  </a:rPr>
                  <a:t>10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665520" y="7226640"/>
                <a:ext cx="65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New Century Schoolbook"/>
                  </a:rPr>
                  <a:t>23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71360" y="7754760"/>
                <a:ext cx="6176880" cy="36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903240" y="7754760"/>
                <a:ext cx="1949400" cy="553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16400" y="7754760"/>
                <a:ext cx="1951200" cy="553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33360" y="7834320"/>
                <a:ext cx="65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New Century Schoolbook"/>
                  </a:rPr>
                  <a:t>11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665520" y="7834320"/>
                <a:ext cx="65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New Century Schoolbook"/>
                  </a:rPr>
                  <a:t>24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1360" y="8362800"/>
                <a:ext cx="617688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903240" y="8362800"/>
                <a:ext cx="1949400" cy="55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316400" y="8362800"/>
                <a:ext cx="1951200" cy="55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33360" y="8440920"/>
                <a:ext cx="65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New Century Schoolbook"/>
                  </a:rPr>
                  <a:t>12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665520" y="8440920"/>
                <a:ext cx="65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New Century Schoolbook"/>
                  </a:rPr>
                  <a:t>25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03240" y="8971200"/>
                <a:ext cx="1949400" cy="55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33360" y="9048600"/>
                <a:ext cx="65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New Century Schoolbook"/>
                  </a:rPr>
                  <a:t>13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-304920" y="5742360"/>
                <a:ext cx="73152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-133200" y="5756760"/>
                <a:ext cx="73152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2133720" y="23623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 c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7400" y="41911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6.4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28800" y="598788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2  cm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86400" y="297180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5 c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86400" y="419112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0 m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38680" y="54547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9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62720" y="5943600"/>
              <a:ext cx="99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ou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81480" y="7238880"/>
              <a:ext cx="12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034 cm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10080" y="784872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0 c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66680" y="5181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36640" y="4952880"/>
              <a:ext cx="1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81080" y="5181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52480" y="487692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952880" y="484488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2 unit squa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1752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62320" y="29718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62320" y="35812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95280" y="48006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33720" y="48006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28800" y="54100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2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66680" y="66294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rli” or  “C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72388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05120" y="78487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05120" y="83818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4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05120" y="90676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34120" y="23623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10080" y="35812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19720" y="65530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, 6, 7, 7, 9 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29200" y="84582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03120" y="6781680"/>
              <a:ext cx="149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 x 6 x 7x 7x 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0" name=""/>
                <p:cNvSpPr txBox="1"/>
                <p:nvPr/>
              </p:nvSpPr>
              <p:spPr>
                <a:xfrm>
                  <a:off x="3371760" y="4844880"/>
                  <a:ext cx="11448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3371760" y="4844880"/>
                  <a:ext cx="11448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5715000" y="1752480"/>
              <a:ext cx="380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5334120" y="5943600"/>
              <a:ext cx="23148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"/>
          <p:cNvSpPr/>
          <p:nvPr/>
        </p:nvSpPr>
        <p:spPr>
          <a:xfrm>
            <a:off x="1523880" y="838080"/>
            <a:ext cx="48769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doni MT Black"/>
              </a:rPr>
              <a:t>MASTER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3T12:18:40Z</dcterms:created>
  <dc:creator>Muhammad Enjar Nugraha</dc:creator>
  <dc:description/>
  <dc:language>en-US</dc:language>
  <cp:lastModifiedBy>SONY</cp:lastModifiedBy>
  <dcterms:modified xsi:type="dcterms:W3CDTF">2002-11-10T04:56:27Z</dcterms:modified>
  <cp:revision>59</cp:revision>
  <dc:subject/>
  <dc:title>Slide 1</dc:title>
</cp:coreProperties>
</file>